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C24B-276C-4E33-8C86-3DD936810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C7FA-95F3-45FC-AFFC-45296F99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F436-2D4D-43DF-9E90-4D52112A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E38D-89A5-4754-A0D7-BF491764F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779-C93C-423E-B173-AA1BDF52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CEE2-E799-466F-BD2D-2B7462A8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88B7-2D8A-427C-BC68-26593E3EE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BB92-674E-438E-87AC-D46CD5C4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6BCF-3438-4C81-A203-B00A6E69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6CA3-D979-4480-B8EA-57EB22B4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4FC-63CE-4F37-B6A4-8FB4832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3B0C-E023-42CC-98DA-7BFA2789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FDE7-21C7-48D0-9D5E-B417D7A81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ормантный синтезатор речи. Часть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раллельный синтез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8569080" cy="55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араллельный синтез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буждение одновременно подается на все формантные фильт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тклики по каждому фильтру суммиру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зультат суммирования и есть реч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нтезатор Клаттовского тип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nis Klat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здатель одного из лучших формантных синтезаторов для английского язы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этом синтезаторе для синтеза гласных и сонорных используется каскадное соединение, для синтеза остальных согласных – параллельное 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лосовое возбужд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848360" cy="58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ljencrants-Fant model (LF-mode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741672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F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-й пара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861840"/>
            <a:ext cx="79930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F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-й пара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915840"/>
            <a:ext cx="7920000" cy="59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F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-й парамет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91280" cy="599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ипы фон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начения параметров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F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дели напрямую связаны с типом фон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пример, для нейтральной фонац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1 = 0.6, p2 = 0.1, p3 = 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скрипучего голос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1 = 0.3, p2 = 0.1, p3 = 0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см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lders, 199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юсы и нули – иное по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8229600" cy="37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ю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ара чисел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ширина форманты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частота форм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у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пара чисел (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ширина антиформанты,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частота антиформа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рмантный филь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0" y="1700280"/>
                <a:ext cx="9144000" cy="16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πb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πf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πb</m:t>
                            </m:r>
                          </m:sup>
                        </m:sSup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684360" y="3860640"/>
            <a:ext cx="7920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«п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 = B/F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ширина форманты (в Гц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дискретизации (в Г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= F/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форм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амплитуда форм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АЧХ формантного фильт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064720" cy="60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тиформ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нтиформант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акая область спектра, в которой энергия существенно ослаблена (по сравнению с другими областям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Физически, это проявляется в том случае, если вокальный тракт разветвлен (например, назальны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Антиформантный фильт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0" y="2089080"/>
                <a:ext cx="9144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πb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πf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b</m:t>
                        </m:r>
                      </m:sup>
                    </m:sSup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611280" y="3357720"/>
            <a:ext cx="792000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«п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 = 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F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ширина антиформанты (в Гц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дискретизации (в Г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 = F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ота антиформ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эффициент ослабления (амплитуда) антиформ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ЧХ антиформантного фильт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799308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тиформа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еальности, разветвление не только «порождает» антиформанты, но и дополнительные форма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этому часто говорят, что разветвление приводит к появлению пар 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юс-ну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личие от формант, антиформанты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 СЛОЖ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змерять по акустическому сигнал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синтезировать назальные без антиформант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аскадный синтезат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229600" cy="936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3141720"/>
            <a:ext cx="84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3573360"/>
            <a:ext cx="86407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ходной сигнал на первый формантный фильтр (1-я форманта) – сигнал возбу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ходной сигнал на 2-ю форманту – отклик первой форм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ходной сигнал на 3-ю форманту – отклик 2-й форма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0T18:32:05Z</dcterms:created>
  <dc:creator>Слава</dc:creator>
  <dc:description/>
  <dc:language>en-US</dc:language>
  <cp:lastModifiedBy>Слава</cp:lastModifiedBy>
  <dcterms:modified xsi:type="dcterms:W3CDTF">2010-04-11T08:47:05Z</dcterms:modified>
  <cp:revision>26</cp:revision>
  <dc:subject/>
  <dc:title>Формантный синтезатор речи</dc:title>
</cp:coreProperties>
</file>