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27B0-24FD-4DBA-8668-8ED823446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D775-9B1B-4103-811C-FBCFF9D1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D1F6-D213-4D98-B816-2C98C3111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EA9E-1358-498D-9F0D-36B0AEAB3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F1C3-0DBD-4A66-8964-C79EFE66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4693-3CD5-4347-9BE9-B7EAA986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10F8-AE3D-4B15-8CE6-ADE18E6BB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E692-0AEB-4DB9-B553-1DFC3D28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8C2F-F130-474F-ABFB-A83C4E25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0938-220E-41FD-8710-5FF99648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FEEB-D527-47DC-B309-E95C95B4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DE82-FAAA-495B-A3A5-0BAFD051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7BE9-9977-49DC-B3F2-6AB9C17FC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884160"/>
            <a:ext cx="7162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омпьютерное моделирование артикуляторных и акустических процессов в естественных языка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Занятие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имер – исходный и периодически продолженный сигнал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p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ериодическое продолж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юбой сигнал (вне зависимости от того, является ли он физически периодически или нет) рассматривается ка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ериодически продолженный (= периодический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ля БПФ и участок гласного, и участок фрикативного будут равно периодически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еорема Фурь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 любой дискретный сигнал рассматривается как периодический (с периодом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равным длительности сигнала), то к нему можно применить теорему Фурь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едовательно, любой дискретный сигнал может быть представлен как сумма гармоник с частотами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1/T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(2/T), (3/T), (4/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т.д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длительность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анализируемого сигнала = 20 миллисекунд (0.02 секунд). Тогда сигнал может быть представлен в виде суммы гармоник с частотами 50 Гц (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/ 0.0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00 Гц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/ 0.0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т.д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данного сигнала частота 50 Гц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икакого отнош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е имеет к частоте колебаний голосовых складо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Дискретное преобразование Фурь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искретное преобразование Фурье (ДПФ)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screte Fourier Transform, DFT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результат применения теоремы Фурье к дискретному сигнал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ПФ позволяет вычислить спектр сигнала по самому сигнал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ратное дискретное преобразование Фурье (ОДПФ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(Inverse Discrete Fourier Transform, IDFT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озволяет вычислить сигнал по его спектр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войства ДП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войство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длина сигнала в отсчетах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 количество гармоник в Фурье-разложении также будет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а не бесконечное число, как для непрерывных сигналов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ответствующий спектр Фурье также будет иметь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ектральных ли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усть частота дискретизации сигнала 16 кГц, длительность сигнала в отсчетах = 160 отсчетов (10 миллисекунд). Тогда общее количество гармоник ДПФ-разложения = 1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астота самой нижней гармоники будет равна 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 0.01 = 10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астота самой высокой гармоники будет равна 16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01 = 16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Г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решение между соседними гармониками по частоте = разности между частотами соседних гармоник = 100 Г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войство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частота дискретизации сигнала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 частота самой высокой гармоники в ДПФ-разложении равна частоте дискретизации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длительность сигнала (в секундах) =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, то разрешение по частоте равно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Скорость вычисления спектр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длина сигнала в отсчетах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то общее количество операций, необходимых для вычисления спектра, примерно равн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пример, если длина сигнала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6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отсчетов, для вычисления спектра необходимо совершить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5536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операц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льзя ли сократить число операций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962520" y="2590920"/>
                <a:ext cx="6476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еорема Фурь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447920"/>
            <a:ext cx="8077320" cy="48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якое периодическое колебание частот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можно получить в результате суммирования бесконечного числа гармоник с частотам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,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,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,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ециально подобранны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амплитудами и фаз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(t) =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(2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t +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 +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(2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Ft +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 +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(2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Ft +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 + …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и т.д.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765000" y="4800600"/>
                <a:ext cx="776628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kF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Быстрое преобразование Фурь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ыстрое преобразование Фурье (БПФ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Fast Fourier Transform, FFT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особ «быстрого» вычисления ДПФ за счет одного математического трю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ратное быстрое преобразование Фурье (ОБПФ)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verse Fast Fourier Transform, IFFT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особ «быстрого» вычисления ОДПФ за счет одного математического трю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щее количество операций в БПФ – примерно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пример, для 256 отсчетов имеем количество операций 2048 операций (вместо 65536 для ДПФ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666880" y="4724280"/>
                <a:ext cx="152424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 чем трюк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длина сигнала в отсчетах есть степень двойки (например, 256 отсчетов =      , 512 отсчетов =     ), то количество операций можно существенно сократи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371600" y="2895480"/>
                <a:ext cx="5284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703760" y="2895480"/>
                <a:ext cx="569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БП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аким образом, для эффективного использования БПФ длина сигнала в отсчетах должна быть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28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56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1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024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048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т.д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этого добиться в действительност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ополнение нулями 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zero-padding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zp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8991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 = fft(x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без дополнения нулями (может вычислять ОЧЕНЬ медленно, если длина сигнала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отсчетах не равна степени двойки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 = fft(x, N)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дополнением нулями до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где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число, равное степени двойки, и большее, чем исходная длина сигнала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 отсчетах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 = ifft(Y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П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aa_f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534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12-БПФ (амплитудный спектр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fft1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6868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12-БПФ (логарифмический спектр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fft2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5341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войство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ПФ-спектр симметричен относительно срединной гармоники (например, 256-й гармоники для 512-точечного БПФ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ответствующая частота = половине частоты дискретизаци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пример, для частоты дискретизации 16 кГц БПФ-спектр симметричен относительно частоты 8 кГ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обходимо вычислять спектр только до половины частоты дискретиз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512-БПФ, физический спект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fft3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763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мплитудно-частотный спект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as" descr=""/>
          <p:cNvPicPr/>
          <p:nvPr/>
        </p:nvPicPr>
        <p:blipFill>
          <a:blip r:embed="rId1"/>
          <a:stretch/>
        </p:blipFill>
        <p:spPr>
          <a:xfrm>
            <a:off x="0" y="1143000"/>
            <a:ext cx="8915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512-БП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fft4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П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fft5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9154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Что нужно помни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длина сигнала в отсчетах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екундах =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то сигнал можно представить суммой из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армоник с частотам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/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/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3/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/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ПФ-спектр нужно вычислять до гармоники с частотой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/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частота дискретизации сигнала =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 БПФ-спектр вычисляется до частоты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s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не степень двойки, то необходимо дополнить нулями сигнал до ближайшего числа, являющегося степенью двойки (в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TL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делается автоматическ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пектр мощ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s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876312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огарифмический спект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ms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8680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еревод в децибелл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еем дискретный набор гармон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каждой гармоники считаем десятичный логарифм от амплитуды данной гармон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множаем результат на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учаем логарифмический спектр в децибеллах (дБ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гибающая спектра (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pectral envelope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se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1048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ак быть с фазой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ериодическое продолж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точки зрения спектрального анализа дискретных сигналов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ЮБ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дискретный сигнал счит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иодически продолженны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1T20:18:35Z</dcterms:created>
  <dc:creator>Андрей Гелион</dc:creator>
  <dc:description/>
  <dc:language>en-US</dc:language>
  <cp:lastModifiedBy>Андрей Гелион</cp:lastModifiedBy>
  <dcterms:modified xsi:type="dcterms:W3CDTF">2009-11-04T17:55:36Z</dcterms:modified>
  <cp:revision>52</cp:revision>
  <dc:subject/>
  <dc:title>Презентация PowerPoint</dc:title>
</cp:coreProperties>
</file>