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102-CD17-4947-A289-851FB916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29E-5845-4695-8F20-74CA892E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D5A-D2FF-4262-99A6-AEB278B4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C17-F2B5-49EA-8E8F-B0EEB9EB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548-2FBF-4AFB-9CB1-560BC1E6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EE8-5A0A-474B-86EB-D70782A1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5B1-C321-4E9D-8A37-08927919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251-3BF7-4B6E-A444-5AAECCD3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EA4-898C-4BA9-9127-DDB7C0B3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9FC-B241-4680-B36E-E16FCBFF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256-96F2-4418-9752-E810553C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F92-B5E9-4706-81B8-D3CD9692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EBF4-A164-4CBC-A20D-E7B58AE2B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84160"/>
            <a:ext cx="7162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ое моделирование артикуляторных и акустических процессов в естественных язык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нятие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язь частоты дискретизации, количества отсчетов и длительности фонетических сегмен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ота дискретизации в Гц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лительность фонетического сегмента в секундах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дискретных отсчетов, запомненных для данного фонетического сегмен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г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 = (N-1)/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частота дискретизации = 16 кГц. Пусть длина фонетического сегмента в отсчетах = 161 отсчет. Тогда длина того же сегмента в секундах = 1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6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01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кунд (10 миллисекун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частота дискретизации = 10 кГц. Пусть длительность фонетического сегмента = 20 миллисекунд (0.02 секунд). Тогда длина того же сегмента в отсчетах = 0.02*10000 + 1 = 201 отсч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сэмпл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сэмплирование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ampling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ход от одной частоты дискретизации к друг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вант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quant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вант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одно имеется дискретный набор возможных значений амплитуд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ровней квантова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вантование сводится к тому, что значение амплитуды каждого отсчета сигнал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ругляет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до ближайшего дискретного уров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память записываются не исходные значения амплитуды, а округл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вант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больше уровней квантования, тем меньше ошибка, возникающая из-за округления (т.наз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ум кванто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уровней квантования обычно определяется количеством бит на амплиту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количество бит на амплитуду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общее количество уровней квантования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886200" y="5181480"/>
                <a:ext cx="1065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используется квантование 16 би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чет (16 бит на отсч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значает, что общее количество уровней квантования =         = 65536 уровн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этого числа половина уровней используется для округления положительных значений амплитуд, а другая половина – отрицательных знач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181480" y="2590920"/>
                <a:ext cx="762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чтение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v-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айл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y,fs,nbits] = wavread(‘test.wav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читае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файл с имене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масси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нарисовать осциллограмму сигнала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ot(y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посмотреть частоту дискретизации сигнала – в командной строке напечата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посмотреть количество бит на отсчет – в командной строке напечатат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прослушать сигнал – либ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nd(y, f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либ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ndsc(y, 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LAB –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сэмпл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= resample(x, Fy, F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ный сигнал с частотой дискретизаци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гнал после ресэмплирования с требуемой частотой дискретизаци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прерывные и дискретные сигнал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discr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сходный дискретный сигнал с частотой дискретизации 22050 Гц. Пусть мы хотим ресэмплировать тот же сигнал на новую частоту 8 кГц.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= resample(x, 8000, 22050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корость пере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количество бит на отсчет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частота дискретизации, то скорость передач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it 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ест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 = n*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частота дискретизации сигнала = 16 кГц с квантованием 16 би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счет. Тогда скорость передачи есть 16*16000 = 256 кби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кун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значает, что на хранение 1 секунды речи требуется памяти 256 кбит = 32 кбай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хранение 1 часа речи требуется 32 кбайт*3200 секунд = около 115 Мбай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выше скорость, тем выше качество речи (ее натуральность и разборчивост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выше скорость, тем больше времени уходит на пересылку сигнала (ср. закачку высококачественного аудио-видео из интерне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выше скорость, тем больше памяти требуется для ее хра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выше скорость, тем больше вычислительных ресурсов требуется на обработку сиг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выше скорость, тем дороже стоимость канала (см. дешевый «медленный» интернет и дорогой скоростн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ктическая пробле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но ли уменьшить скорость (и за счет этого уменьшить стоимость канала и ресурсозатраты), но при этом сохранить высокое качество реч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код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ая задач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окодера – передать реч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меньш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корости, но при этом с наименьшими искажени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этого в речи определяются такие параметры, которые бы 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ыли наиболее информативны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для человеческого восприятия, 2. требовали меньшей частоты дискретизации и-или уровней квант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ценка качества вокоде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 (Most Opinion Scor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уппа экспертов-аудиторов оценивает фразы, синтезированные вокодером, по 5-балльной шкал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казатели современных вокоде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ость пере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 2.4 кби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L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9.6 кби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EL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сравни с 256 кби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c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исходного сигнал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3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L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до 4.5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EL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араметры для кодир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метры, описывающие спектр звуков (т.наз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эффициенты линейного предсказ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– основное семейство вокодеро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LP, CELP, AC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ейств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кодеры, основанные на теореме Фурье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армонические, или синусоидальные, вокоде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искретизация и квант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вводе непрерывного сигнала в компьютер сигнал дискретизируется и кванту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нетист всегда имеет дело с дискретными квантованными сигнал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ы цифровой обработки сигналов (например, Быстрое Преобразование Фурье) существенно используют свойства дискретных сигнал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крет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iscr1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ота дискрет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вал дискретизации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ing period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вал времени между двумя соседними временными отсче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астота дискретизац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sampling frequency, sampling rate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/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ота дискретизации определяет количество отсчетов в секун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частота дискретизации сигнала = 16 кГц, то это означает, чт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 1 секунду запоминаются 16000 отсчетов сигна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также означает, что временной интервал между двумя соседними отсчетами равен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.0000625 секунд (0.0625 миллисекун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сколько часто нужно запоминать отсчеты непрерывного сигнал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Котельник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спектр непрерывного сигнала не содержит информации выше частоты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частота дискретизации должна быть не менее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астоту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астотой Найквиста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yquist frequ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нительно к ре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итается, что спектральные компоненты выше 3400 Гц не влияют на разборчивость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ому можно приблизительно считать, что выше 4000 Гц информация, нужная для слухового восприятия речи, отсутству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минимальная частота дискретизации для речи =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 кГ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20:06:38Z</dcterms:created>
  <dc:creator>Андрей Гелион</dc:creator>
  <dc:description/>
  <dc:language>en-US</dc:language>
  <cp:lastModifiedBy>Андрей Гелион</cp:lastModifiedBy>
  <dcterms:modified xsi:type="dcterms:W3CDTF">2009-10-22T10:25:44Z</dcterms:modified>
  <cp:revision>49</cp:revision>
  <dc:subject/>
  <dc:title>Презентация PowerPoint</dc:title>
</cp:coreProperties>
</file>