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015-7FB0-4FA1-AD6B-CCEA805E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A3E-07CF-4B00-83B2-7407F02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A3B-798C-48F9-AD59-927882A9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00B-BC36-413B-BD34-CFD424E1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167-72A1-4E35-871B-674BB9A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797-EDE6-4B31-9EDA-0F28C9CF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58D-879D-4084-9D73-DABC314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ED4-F98F-47CD-8103-36CF754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B3D-B79B-4ECA-A82A-4EA23D68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09C-AC1F-43FA-9C19-99FB27B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9CF-53B5-484E-9274-D580DC2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87A-650C-469C-A826-081C28B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0C79-70E8-4DDA-8B53-E5E53496D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84160"/>
            <a:ext cx="7162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ое моделирование артикуляторных и акустических процессов в естественных язы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нятие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го говоря, периодическое колебание – абстракция, которой в реальности нет (хотя бы потому, что в реальном мире бесконечно длинных сигналов н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оме того, в реальности сигналы повторяют себя не точ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ако периодический сигнал – это очень полезная абстра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ериод колебания, то частотой колебания называется величи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измеряется в Герцах (Гц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больше Герц, тем выше частота (и тем больше колебаний совершается за единицу времени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руговая част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колебания, 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й частот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го же колебания называю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«пи», 3,14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частота измеряется в радианах в секун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армоническое колеб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inewave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зические примеры гармонических колеб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ят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зик на пружин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запи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(t) = A*sin(2*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*F +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плитуда гармонического колеб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–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гармонического колеб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а гармонического колеб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59360" y="698328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9360" y="698328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лебания с разными амплитуд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ий смыс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размах красного маятника в два раза больше, чем размах че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ine1" descr=""/>
          <p:cNvPicPr/>
          <p:nvPr/>
        </p:nvPicPr>
        <p:blipFill>
          <a:blip r:embed="rId1"/>
          <a:stretch/>
        </p:blipFill>
        <p:spPr>
          <a:xfrm>
            <a:off x="228600" y="1276200"/>
            <a:ext cx="8610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лебания с разными частот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5791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ий смысл – красный маятник колеблется в два раза чаще, чем чер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ine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86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лебания с разными фаз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5486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ий смысл – красный маятник начал колебаться раньше, чем черный маят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ine3" descr=""/>
          <p:cNvPicPr/>
          <p:nvPr/>
        </p:nvPicPr>
        <p:blipFill>
          <a:blip r:embed="rId1"/>
          <a:stretch/>
        </p:blipFill>
        <p:spPr>
          <a:xfrm>
            <a:off x="228600" y="1257480"/>
            <a:ext cx="86868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жно собирать периодические колебания, суммируя гармонические с разными частотами, амплитудами и фаз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и и задачи теории речеобраз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роение компьютерных моделей артик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алгоритмов управления компьютерными моделями артик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алгоритмов синтеза звука по движениям артикуля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5791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уммируются 3 гармонических колебания с частотами 100 Гц, 200 Гц, 300 Г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sine12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sum_3harmonic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уммирует и рисует 3 гармоники с частотами 100 Гц, 200 Гц, 300 Г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плитуды и фазы подбираются пользователем произволь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um_3harmonics([3,2,1],[0,0,0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ine1231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055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жно ли произвольное периодическое колебание разложить на сумму гармонически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Фур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447920"/>
            <a:ext cx="80773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кое периодическое колебание частот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но получить в результате суммирования бесконечного числа гармоник с частот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о подобран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мплитудами и фаз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…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 т.д.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5000" y="4800600"/>
                <a:ext cx="77662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F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моника с частот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й гармони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моники с частотами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шими гармони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и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ртон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а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оянной составляющ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ояз. лит-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ая составляющ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значается ка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все гармоники – ка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ьмем следующий сигна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1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818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 гармо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fourier_demo1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f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 гармо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fourier_demo1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3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вление Гибб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quare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 гармо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fourier_demo2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ibbs1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 гармо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6019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fourier_demo2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ibbs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0 гармо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fourier_demo2(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ibbs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вление Гибб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вление Гибб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появление пульсаций значительной амплитуды в окрестности скачкообразного изменения сиг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этом эти пульсации не исчезают при увеличении количества гармо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вление Гибб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им образом, если в сигнале есть скачки, то в окрестности этих скачков разложение Фурье описывает этот сигнал с большой погреш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чем опасность явления Гиббс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вление Гибб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ibbs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yrinx Articulatory Analysi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syrinxspeech.com/index.php?option=com_content&amp;task=view&amp;id=16&amp;Itemid=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гн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одические – непериод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- дискре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иодический сигна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иодический сигн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игнал, форма которого регулярно повторяется через некоторый временной интервал (называемый период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eriod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гна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периодическим с периодо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(t + T) = x(t)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ля всех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ериод колебания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T, 3T, 4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такж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, -2T, -3T, -4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ются периодами данного колеб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кое периодическое колебание является бесконечно длинным (от минус бесконечности до плюс бесконечн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пробуйте доказать эти два свойства из определения периодического колеб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6:53:45Z</dcterms:created>
  <dc:creator>Андрей Гелион</dc:creator>
  <dc:description/>
  <dc:language>en-US</dc:language>
  <cp:lastModifiedBy>Андрей Гелион</cp:lastModifiedBy>
  <dcterms:modified xsi:type="dcterms:W3CDTF">2009-10-15T11:23:27Z</dcterms:modified>
  <cp:revision>51</cp:revision>
  <dc:subject/>
  <dc:title>Презентация PowerPoint</dc:title>
</cp:coreProperties>
</file>