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C67-1B45-4B56-9D5A-541A5E3E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1CB-F2A9-4471-9DA3-06B3BC17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A82-D7DC-4BA3-B24C-24BD4E1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F0C-DDD5-4383-A6C7-5D545DBD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95F-6DFD-4959-9EF8-4BA3215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E60-410E-4D00-9C0C-E80ABAAA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53C-7F6C-46C6-8FFA-78569E9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0A2-6012-42CC-B76A-62FBBBF4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CA3-7787-4FEF-9B75-8265C88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4B7-5CDB-4793-8831-A9E9073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45E-B2FE-45A2-9935-1F12643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AA3-B05F-46FF-8361-14B0634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A00-7104-47E6-B19F-FDF00FA98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84160"/>
            <a:ext cx="7162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ое моделирование артикуляторных и акустических процессов в естественных язы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нятие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ы ли псевдоформанты для восприят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прос совершенно неизуч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евдоформанты трудно моделировать, трудно синтезировать и еще труднее – наблюд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первые результаты показывают, что вроде бы псевдоформанты улучшают натурально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«источник-фильтр» затрещала по швам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 данные все поступают и поступают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ифуркации в речевом сигна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ифурка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качкообразное изменение чего-либ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ример, бифуркация основного тона – это скачкообразное изменение основного то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явление многих бифуркац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как не объясня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оделью «источник-фильт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ифуркация основного т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обенно часто наблюдается в пении у неопытных певц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вец пытается пропеть глиссандо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еняя частоту основного тона от низкой ноты к высокой (или наоборо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вдруг голос «прыгает» - певец дает петух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бифуркации О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ифуркация О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а никак не объясняется моделью «источник-фильтр». Если человек изменяет ОТ гладко, т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каких скачков по модели «источник-фильтр» быть не долж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ифуркация формантных часто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некоторых звукосочетания формантный трек как бы «расщепляется» на д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ин кусок от расщепления постепенно исчез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торой формируется в новый тр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F2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ифур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UI_bif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F2-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3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фурк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A_bif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ифуркации формантных частот не могут быть объяснены в рамках модели «источник-фильтр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раведлива ли модель «источник-фильтр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армоники основного т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армоники О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спектральные компоненты, частоты которых кратны частоте ОТ (ЧО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ример, если ЧОТ = 100 Гц, то частота 2-гармоники = 200 Гц, частота 3-гармоники = 300 Гц,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убгармоники основного т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бгармоники 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ектральные компоненты, частоты которых делятся на ЧОТ (или частоты гармоник) без оста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, если ЧОТ = 100 Гц, то частота 2-субгармоники = 50 Г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бгармо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точки зрения модели «источник-фильтр», речевой сигнал есть сигнал источника, отфильтрованный речевым трак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еореме Фурье, сигнал источника есть сумма сигнала с частотой основного тона и гармоник (сигналов с частотами, кратными ЧО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трация сигнала источника есть изменение амплитуд и фаз сигнала основного тона и гармоник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не добавление сигналов с новыми частот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появление субгармоник никак не объясняется моделью «источник-филь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субгармон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сколько субгармоники важны для воспри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этот вопрос наука ответа пока не име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точник-филь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f_g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86200" y="2133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sf_tf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01000" y="22096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f_all" descr=""/>
          <p:cNvPicPr/>
          <p:nvPr/>
        </p:nvPicPr>
        <p:blipFill>
          <a:blip r:embed="rId3"/>
          <a:stretch/>
        </p:blipFill>
        <p:spPr>
          <a:xfrm>
            <a:off x="26668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мплитудно-частотная модуляция формантных часто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точки зрения модели «источник-фильтр», спектр источника слабо влияет на местоположение формантных частот. Следовательно, изменение формантного трека от периода к периоду должно быть незначительным. Так ли это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астотные модуляции, наблюдаемые в реальном сигна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zc3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ругие феномены, не объясняемые моделью «источник-фильтр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фон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наличие двух независимых источников звука (тувинское п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йдебанд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ектральные компоненты, частота которых кратна частоте моду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ый ха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вази-случайные пульсации вокруг некоторой гармон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игер, Кайз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«источник-фильтр» в корне невер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нее нужно отказ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 возбуждается не голосовым источником, а «дорожкой стоячих вихрей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ing vortex stre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мн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емная скоро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воздушный поток (количество частиц воздуха), протекающий через голосовые склад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olvel" descr=""/>
          <p:cNvPicPr/>
          <p:nvPr/>
        </p:nvPicPr>
        <p:blipFill>
          <a:blip r:embed="rId1"/>
          <a:stretch/>
        </p:blipFill>
        <p:spPr>
          <a:xfrm>
            <a:off x="0" y="1219320"/>
            <a:ext cx="84582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M-FM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чь – сумма элементарных колебаний, модулированных по амплитуде и часто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дексы модуляции определяются системой «легкие – трахея – гортань – речевой трак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временное понимание во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евой тракт, гортань и подсвязочная область (легкие, бронхи, трахея) – единое цел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 голосовых складок определяется речевым трактом и подсвязочной об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устика речевого тракта определяется конфигурацей голосовой щели и подсвязочной об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временное понимание во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снове всех описанных явлений – взаимодействие между воздушным потоком, вытекающим из легких, механическими свойствами гортани и акустическими особенностями речевого ап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это – объект изуче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эроаку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сли модель «источник-фильтр» верна, то форма объемной скорости для разных гласных должна быть похожей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к ли эт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ъемные скорости для реальных глас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ва – гласный А, справа – гласный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нктир – объемная скорость по модели «источник-фильтр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лошная линия – объемная скорость полной мод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olvel_a" descr=""/>
          <p:cNvPicPr/>
          <p:nvPr/>
        </p:nvPicPr>
        <p:blipFill>
          <a:blip r:embed="rId1"/>
          <a:stretch/>
        </p:blipFill>
        <p:spPr>
          <a:xfrm>
            <a:off x="0" y="190512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volvel_i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сколько это важно для восприят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сные звуки, синтезированные по полной модели, воспринимаются как более разборчивые и более натуральные, чем гласные, синтезированные по модели «источник-филь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ские и детские голоса зачастую плохо синтезируются по модели «источник-фильтр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нтетический певческий голос лучше получается по полной модели, чем по модели «источник-фильтр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сли модель «источник-фильтр» верна, то передаточные функции не должны зависеть от конфигурации голосовых складок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к ли это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ять не так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ubgl_anim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Псевдоформант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зных конфигураций голосовой щели мы имеем разное число спектральных пиков = форма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этом расположение этих пиков зависит и от конфигурации речевого тра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форманты называют иногда «псевдоформантам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41:20Z</dcterms:created>
  <dc:creator>Андрей Гелион</dc:creator>
  <dc:description/>
  <dc:language>en-US</dc:language>
  <cp:lastModifiedBy>Андрей Гелион</cp:lastModifiedBy>
  <dcterms:modified xsi:type="dcterms:W3CDTF">2009-09-27T11:26:58Z</dcterms:modified>
  <cp:revision>47</cp:revision>
  <dc:subject/>
  <dc:title>Презентация PowerPoint</dc:title>
</cp:coreProperties>
</file>