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3.png" ContentType="image/pn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8DA3-47A1-407E-A70E-A2FD49AB4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F942-DA31-4437-8E95-B7ED77E7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CE5E-AB6E-49CF-B4DC-1AE041227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9BD1-1AE7-493D-9FA5-BE403E848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B745-1053-430C-BE29-C7943DBF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D4E5-9957-4640-9185-0008AD1B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BD37-CC1B-4427-9348-980CB8A9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B6A1-8441-4DDF-AE31-C10457AE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B560-E11C-423C-A20D-88A30027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9BCB-4A5D-4C8D-8765-6BB391DC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C8C8-6C33-4472-9C16-6ADB654C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EACA-99E2-4FEF-BC42-0489FD03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248E-4DC6-4BBB-A5C5-B13EBF363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омпьютерное моделирование артикуляторных и акустических процессов в естественных языка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анятие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езонатор Гельмгольц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Helmholtz_resonator" descr=""/>
          <p:cNvPicPr/>
          <p:nvPr/>
        </p:nvPicPr>
        <p:blipFill>
          <a:blip r:embed="rId1"/>
          <a:stretch/>
        </p:blipFill>
        <p:spPr>
          <a:xfrm>
            <a:off x="4659480" y="1981080"/>
            <a:ext cx="3787560" cy="4114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762120" y="2057400"/>
                <a:ext cx="243828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V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380880" y="3581280"/>
            <a:ext cx="3886200" cy="25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астота резонато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корость звука (350 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к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ощадь входного отверст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ина входного отверст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ъем резонато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ормантные част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зонатор использовался для анализа гласных зву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 его помощью для гласных были обнаружены частоты, на которых резонатор усиливал зву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и частоты Гельмгольц назвал формантн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ля каждого гласного Гельмгольц обнаружил по 1-2 формантные часто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ля разных гласных частоты оказались различн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ельмгольц предположил, что формантные частоты – основа восприят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Речевой тракт как сдвоенный резонатор Гельмгольц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609588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aa_vt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151520" cy="4572000"/>
          </a:xfrm>
          <a:prstGeom prst="rect">
            <a:avLst/>
          </a:prstGeom>
          <a:ln w="0">
            <a:noFill/>
          </a:ln>
        </p:spPr>
      </p:pic>
      <p:pic>
        <p:nvPicPr>
          <p:cNvPr id="72" name="ii_vt" descr=""/>
          <p:cNvPicPr/>
          <p:nvPr/>
        </p:nvPicPr>
        <p:blipFill>
          <a:blip r:embed="rId2"/>
          <a:stretch/>
        </p:blipFill>
        <p:spPr>
          <a:xfrm>
            <a:off x="4713120" y="1905120"/>
            <a:ext cx="41515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Речевой тракт как сдвоенный резонатор Гельмгольц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ечевой тракт акустически – два резонатора Гельмгольца, соединенных последовательно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(Неверно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спектре каждого гласного – не более 2 формант (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Неверно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ждая форманта связана с определенной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лостью в тракте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(НЕВЕРНО!!!!!!!!!!!!!!!!!!!!!!!!!!!!!!!!!!!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Гуннар Фан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новной труд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Акустическая теория речеобразования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казал ошибочность модели тракта как сдвоенного резонат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ложил модель «источник-фильтр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многое-многое другое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gunnar2" descr=""/>
          <p:cNvPicPr/>
          <p:nvPr/>
        </p:nvPicPr>
        <p:blipFill>
          <a:blip r:embed="rId1"/>
          <a:stretch/>
        </p:blipFill>
        <p:spPr>
          <a:xfrm>
            <a:off x="4971960" y="1981080"/>
            <a:ext cx="3162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сточник-фильт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sf_g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3352680" cy="25146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886200" y="213372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sf_tf" descr=""/>
          <p:cNvPicPr/>
          <p:nvPr/>
        </p:nvPicPr>
        <p:blipFill>
          <a:blip r:embed="rId2"/>
          <a:stretch/>
        </p:blipFill>
        <p:spPr>
          <a:xfrm>
            <a:off x="4419720" y="1447920"/>
            <a:ext cx="3657600" cy="2514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001000" y="220968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sf_all" descr=""/>
          <p:cNvPicPr/>
          <p:nvPr/>
        </p:nvPicPr>
        <p:blipFill>
          <a:blip r:embed="rId3"/>
          <a:stretch/>
        </p:blipFill>
        <p:spPr>
          <a:xfrm>
            <a:off x="2666880" y="3962520"/>
            <a:ext cx="35816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которые следствия теории «источник-фильтр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28195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точник звука – голосовые складки, речевой тракт лишь модифицирует (фильтрует) источ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кустические свойства складок и тракта могут изучаться порозн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кладки и тракт акустически независимы друг от дру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риложение 1 (формантный синтезатор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ннис Клатт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тель каскадно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аллель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нтн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нтезат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Dennis_Klatt" descr=""/>
          <p:cNvPicPr/>
          <p:nvPr/>
        </p:nvPicPr>
        <p:blipFill>
          <a:blip r:embed="rId1"/>
          <a:stretch/>
        </p:blipFill>
        <p:spPr>
          <a:xfrm>
            <a:off x="4975200" y="1981080"/>
            <a:ext cx="3154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ложение 2 (вокодер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2742840"/>
            <a:ext cx="3809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шну Атал – один и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здателей семейст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кодеров на основ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нейного предсказ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atal_bishnu" descr=""/>
          <p:cNvPicPr/>
          <p:nvPr/>
        </p:nvPicPr>
        <p:blipFill>
          <a:blip r:embed="rId1"/>
          <a:stretch/>
        </p:blipFill>
        <p:spPr>
          <a:xfrm>
            <a:off x="4933800" y="1981080"/>
            <a:ext cx="3238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ратная фильтр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Если источник звука и речевой тракт независимы, то можно из речевого сигнала выделить источн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то нужно для синтеза речи, для идентификации человека по голосу, для изучения вокальных патолог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дачи спецкур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комство с основными положениями акустики и механики речеобраз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язь с цифровой обработкой сигнал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ществующие компьютерные модели артикуляции и акуст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хнические приложения (вокодеры, формантные синтезаторы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Артикуляция - акусти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ii_vt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4118040" cy="4457520"/>
          </a:xfrm>
          <a:prstGeom prst="rect">
            <a:avLst/>
          </a:prstGeom>
          <a:ln w="0">
            <a:noFill/>
          </a:ln>
        </p:spPr>
      </p:pic>
      <p:pic>
        <p:nvPicPr>
          <p:cNvPr id="96" name="ii_tf" descr=""/>
          <p:cNvPicPr/>
          <p:nvPr/>
        </p:nvPicPr>
        <p:blipFill>
          <a:blip r:embed="rId2"/>
          <a:stretch/>
        </p:blipFill>
        <p:spPr>
          <a:xfrm>
            <a:off x="4572000" y="1981080"/>
            <a:ext cx="43434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хан Сондх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3123720"/>
            <a:ext cx="38102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кустическая теория речеобраз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ория речевых обратных зада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hmm_team" descr=""/>
          <p:cNvPicPr/>
          <p:nvPr/>
        </p:nvPicPr>
        <p:blipFill>
          <a:blip r:embed="rId1"/>
          <a:stretch/>
        </p:blipFill>
        <p:spPr>
          <a:xfrm>
            <a:off x="4648320" y="2739960"/>
            <a:ext cx="380988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ая программная сред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LAB (5.x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выш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al Processing Tool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Литература (на русском языке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С. В. Кодзасов, О. Ф. Кривнова, </a:t>
            </a:r>
            <a:r>
              <a:rPr b="0" i="1" lang="ru-RU" sz="2000" spc="-1" strike="noStrike">
                <a:solidFill>
                  <a:srgbClr val="ff3300"/>
                </a:solidFill>
                <a:latin typeface="Times New Roman"/>
              </a:rPr>
              <a:t>Общая фонетика. 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М., 200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. Фант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кустическая теория речеобразова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М., 196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. Фант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нализ и синтез речи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восибирск, 197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ж. Фланаган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нализ, синтез и восприятие речи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., 196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. Маркел, А. Грей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Линейное предсказание речи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., 1980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Л. Рабинер, Р. Шафер, </a:t>
            </a:r>
            <a:r>
              <a:rPr b="0" i="1" lang="ru-RU" sz="2000" spc="-1" strike="noStrike">
                <a:solidFill>
                  <a:srgbClr val="ff3300"/>
                </a:solidFill>
                <a:latin typeface="Times New Roman"/>
              </a:rPr>
              <a:t>Цифровая обработка речевых сигналов. 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М., 198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. Н. Сорокин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Теория речеобразования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., 198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. Н. Сорокин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интез реч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М., 199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В. П. Морозов, </a:t>
            </a:r>
            <a:r>
              <a:rPr b="0" i="1" lang="ru-RU" sz="2000" spc="-1" strike="noStrike">
                <a:solidFill>
                  <a:srgbClr val="ff3300"/>
                </a:solidFill>
                <a:latin typeface="Times New Roman"/>
              </a:rPr>
              <a:t>Тайны вокальной речи. 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М., Л., 196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В. П. Морозов, </a:t>
            </a:r>
            <a:r>
              <a:rPr b="0" i="1" lang="ru-RU" sz="2000" spc="-1" strike="noStrike">
                <a:solidFill>
                  <a:srgbClr val="ff3300"/>
                </a:solidFill>
                <a:latin typeface="Times New Roman"/>
              </a:rPr>
              <a:t>Искусство резонансного пения. 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М., все издания, начиная с 199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итература (на английском язык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. Titze, 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Principles of Voice Production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. Pearson Allyn and Vacon, 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все издания, начиная с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99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. Steven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oustic Phonet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MIT Press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е издания, начиная с 199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. Childers, 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Speech Processing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, John Wiley and Sons, Inc., 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все издания, начиная с 199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. Ladefoged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Course in Phonetics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court Brace, 200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. Huang, A. Acero, H. Hon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poken Language Processing: A Guide to Theory, Algorithm and System Development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ntice Hall, 2001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лавы 5 – 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J. Holmes, W. Holmes, 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Speech Synthesis and Recognition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, Taylor and Francis, Inc.,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. Titze, 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The Myoelastic-aerodynamic theory of phonation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, Denver, 2006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ыбранные главы из истории теории речеобразо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льфганг фон Кемпелен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1734-180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новные достижен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троил автомат, играющий в шахматы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троил говорящую машину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троил первый водопровод в Братислав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троил первый понтонный мост в Братислав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делал головокружительную карьеру, став председателем Венгерско-Трансильванской канцеляр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Kempelen-charcoal" descr=""/>
          <p:cNvPicPr/>
          <p:nvPr/>
        </p:nvPicPr>
        <p:blipFill>
          <a:blip r:embed="rId1"/>
          <a:stretch/>
        </p:blipFill>
        <p:spPr>
          <a:xfrm>
            <a:off x="5122800" y="1981080"/>
            <a:ext cx="2860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Говорящая машина Кемпеле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тал 20 л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делал 3 верс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дняя версия описана 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echanismus der menschlichen Sprache nebst Beschreibung einer sprechenden Maschine (179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kempln3" descr=""/>
          <p:cNvPicPr/>
          <p:nvPr/>
        </p:nvPicPr>
        <p:blipFill>
          <a:blip r:embed="rId1"/>
          <a:stretch/>
        </p:blipFill>
        <p:spPr>
          <a:xfrm>
            <a:off x="5016600" y="1981080"/>
            <a:ext cx="3073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Герман фон Гельмголь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руды по общей акусти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руды по физиологии слух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руды по психологии и эстетике человеческого восприят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Hermann_von_Helmholtz" descr=""/>
          <p:cNvPicPr/>
          <p:nvPr/>
        </p:nvPicPr>
        <p:blipFill>
          <a:blip r:embed="rId1"/>
          <a:stretch/>
        </p:blipFill>
        <p:spPr>
          <a:xfrm>
            <a:off x="4971960" y="1981080"/>
            <a:ext cx="3160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0:58:30Z</dcterms:created>
  <dc:creator>Андрей Гелион</dc:creator>
  <dc:description/>
  <dc:language>en-US</dc:language>
  <cp:lastModifiedBy>Андрей Гелион</cp:lastModifiedBy>
  <dcterms:modified xsi:type="dcterms:W3CDTF">2009-09-25T06:04:25Z</dcterms:modified>
  <cp:revision>48</cp:revision>
  <dc:subject/>
  <dc:title>Компьютерное моделирование артикуляторных и акустических процессов в естественных языках</dc:title>
</cp:coreProperties>
</file>