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43DC-E07B-4734-AFB9-356B28F2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B47-9A2E-4F8F-A2B1-FB74A79B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41CC-C46D-4556-B415-52910DA9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057E-14D1-4A70-A70C-39BF03AF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53A-7C63-4EF9-AA2A-953BED27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7F2-3ECB-4381-8A1F-61FDC002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4AD9-CE4B-4AE2-A869-9D88D424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DAE-B289-4A9C-A0BC-0530BE8C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71F-F5FB-4925-B828-40BD40E2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BA3-027E-434D-B9D2-697BADBD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99F-283C-40E1-BF84-144919FC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CA8-3CDF-484C-BA3B-ECED108A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D4F3-17FC-4CC8-9457-063317FB8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ы цифровой обработки речевых сигналов, часть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ЧХ предыскажающего филь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416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2. Интегра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547640" y="1916280"/>
                <a:ext cx="6096240" cy="26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2050920" y="5734080"/>
            <a:ext cx="56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ъяснения на дос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ЧХ интегра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97164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антный филь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0" y="1700280"/>
                <a:ext cx="91440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πb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f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πb</m:t>
                            </m:r>
                          </m:sup>
                        </m:sSup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684360" y="3860640"/>
            <a:ext cx="792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«п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 = B/F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ширина форманты (в Гц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дискретизации (в Г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= F/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форм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ЧХ формантного филь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06472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даточная функция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MA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66800" y="2060640"/>
                <a:ext cx="760896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люсы и ну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ули передаточной функ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знач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которых числитель функции равен ну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юсы передаточной функ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знач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которых знаменатель функции равен ну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1. Предыскажающий филь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39640" y="2349360"/>
                <a:ext cx="583272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1835280" y="4149720"/>
            <a:ext cx="532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 = 0.95 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у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юсов 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2. Интегра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11280" y="1700280"/>
                <a:ext cx="4176720" cy="18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755640" y="4292640"/>
            <a:ext cx="5689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 = 1 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ю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улей 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даточная функция АР-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точная функция АР-систем вычисляется быстро и про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этого необходимо только знать коэффициенты и порядок АР-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это с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преобраз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92360" y="1268280"/>
                <a:ext cx="5711760" cy="24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900000" y="3994200"/>
            <a:ext cx="5688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ота в Г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ота дискретизации в Г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число «п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то мнимая ед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-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[n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льный сигнал, то е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бразование определяется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484360" y="3429000"/>
                <a:ext cx="403884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чем смысл преобразова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сказать, что символ         обознача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имвольном вид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ю гармонику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ю спектральную лин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можно сказать, чт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преобразо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ает спектр Фурье сигнала в символьном вид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имущество этого преобразования (перед ДПФ) – в том, что символьная запись позволяет вскрыть ряд замечательных свойств, которые при записи через гармоники затушев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292720" y="1484280"/>
                <a:ext cx="685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вой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бразование о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[n-m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987640" y="2421000"/>
                <a:ext cx="28195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m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даточная функция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MA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766800" y="2060640"/>
                <a:ext cx="760896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042920" y="494172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яснения на дос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понимать запись через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-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в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ычн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стемы записывают через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енной области, зна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образование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разу можно получить конечно-разностную зап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астотной области можно получить график ее амплитудно-частотной характеристики (передаточной функци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1. Предыскажающий филь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39640" y="2349360"/>
                <a:ext cx="799308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2050920" y="4869000"/>
            <a:ext cx="48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ъяснения на дос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14:11:14Z</dcterms:created>
  <dc:creator>Слава</dc:creator>
  <dc:description/>
  <dc:language>en-US</dc:language>
  <cp:lastModifiedBy>Слава</cp:lastModifiedBy>
  <dcterms:modified xsi:type="dcterms:W3CDTF">2010-04-08T19:00:36Z</dcterms:modified>
  <cp:revision>33</cp:revision>
  <dc:subject/>
  <dc:title>Основы цифровой обраотки речевых сигналов, часть 2</dc:title>
</cp:coreProperties>
</file>