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445-3E24-4996-84EF-68684756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980-F941-4DE1-B0CD-3BE6DA53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E6E-8D0D-4819-8B31-1B8FB2B5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D9E-7C78-4D5E-ABAB-C24CC81D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6836-018B-4919-AC08-D0906C4D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C5C0-ED54-4AB0-AE7F-8F6F8B9C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6A2B-53D9-4B7D-A07B-ACABFBC2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2B6E-4126-4A1F-AA90-3DD9A8CB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CF2C-A5ED-417F-983E-A857ECD5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4090-A5FB-4D02-A084-C5A3E79A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92C2-30DB-4AC7-9F5A-3D32141F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BA1-9C9E-4DB6-9410-12C96ABB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75D6-DDC6-4665-955B-087ABB47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4D6C-A72C-435C-8930-BA0DE4DC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227B-B7AB-45CE-BAF4-A9455C4C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1CD7-8705-47E3-8669-72F9E485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5473-0D4E-481C-9AB6-B4216AE7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0A2-ADC0-4849-B059-F60FD50E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810-CD77-40E6-98DB-0AD3F408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82E-1371-4A6B-94DF-E8F829A5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4BC-1F52-448D-B1CE-C139FC7B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AB3-1809-42E3-9B59-EBFD0469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DFA-1D99-4375-97D1-A479D669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7F1-3523-4B44-859D-2C5A9316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BAF5-952D-407F-9979-F7633467E2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F9A3-D721-4697-8DE1-7B7D594C806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Современное состояние лингвистики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.Е.Кибр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4.02.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Динамика приоритетов в истории лингвист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нетика 0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рфология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таксис 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мантика 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скурс 7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7885080" y="4292640"/>
            <a:ext cx="358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20000" y="364500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03640" y="191628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59280" y="2492280"/>
            <a:ext cx="504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141720"/>
            <a:ext cx="720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08360" y="1916280"/>
            <a:ext cx="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341316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ahoma"/>
              </a:rPr>
              <a:t>Когнитивная наука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ahoma"/>
              </a:rPr>
              <a:t>и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ahoma"/>
              </a:rPr>
              <a:t>лингвисти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Приоритеты мировой нау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57360"/>
            <a:ext cx="8540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Х век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д знаком великих физических открыт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 основанных на них технолог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гноз на Х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к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концентрируется на изучении человека – самого сложного научного объекта, существующего во вселенн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Comic Sans MS"/>
              </a:rPr>
              <a:t>Мозг, мышление, язык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еханизм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зга, мышления, сознания и Язы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тановятся самым главным центром интереса науки наступившего века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Comic Sans MS"/>
              </a:rPr>
              <a:t>Исследование</a:t>
            </a:r>
            <a:br>
              <a:rPr sz="4800"/>
            </a:br>
            <a:r>
              <a:rPr b="0" lang="en-US" sz="4800" spc="-1" strike="noStrike">
                <a:solidFill>
                  <a:srgbClr val="ff9933"/>
                </a:solidFill>
                <a:latin typeface="Comic Sans MS"/>
              </a:rPr>
              <a:t> механизмов мышления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ступ к мышлению –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озг как физическая реаль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Язык как символическая реаль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Языковая деятельность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ак реализация мыслительной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99ff33"/>
                </a:solidFill>
                <a:latin typeface="Tahoma"/>
              </a:rPr>
              <a:t>дискурс, психолингвис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Структура когнитивной нау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нгвис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спериментальная псих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йрофизи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кусственный интеллект, робототех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лософ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тема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8540640" cy="23335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ff33"/>
                </a:solidFill>
                <a:latin typeface="Arial Black"/>
              </a:rPr>
              <a:t>Когнитивная</a:t>
            </a:r>
            <a:r>
              <a:rPr b="0" lang="en-US" sz="6600" spc="-1" strike="noStrike">
                <a:solidFill>
                  <a:srgbClr val="99ff33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99ff33"/>
                </a:solidFill>
                <a:latin typeface="Arial Black"/>
              </a:rPr>
              <a:t>лингвисти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Comic Sans MS"/>
              </a:rPr>
              <a:t>Сепир (</a:t>
            </a: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Language</a:t>
            </a:r>
            <a:r>
              <a:rPr b="0" lang="ru-RU" sz="4000" spc="-1" strike="noStrike">
                <a:solidFill>
                  <a:srgbClr val="ff9933"/>
                </a:solidFill>
                <a:latin typeface="Comic Sans MS"/>
              </a:rPr>
              <a:t>. 1921)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Язык можно счита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лишь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нешней грань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ышлени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 наивысшем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иболее обобщенном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ровн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имволического выраж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 точки зрения языка МЫШЛ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ожет быть определено как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ивысше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крытое или потенциально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одержание реч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 такое содержание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оторого можно достичь, толку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каждый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элеме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чевого поток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 в максимальной степени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деленный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онцептуальной значимостью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Структура лингвистических знан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01680" y="1600200"/>
          <a:ext cx="8540640" cy="520236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«Чистая» лингв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+ сравнение язы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+ смежные нау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Прикладная лингв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Опис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.-ист. Языкозн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Психо-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Компьютерная 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Теория Язы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Типология и универсал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о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евая 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трастивная 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йро-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нгво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дак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еальная 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но-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зыковая поли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алектоло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тематич. 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зыковое воздейств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вантитативная 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…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solidFill>
            <a:srgbClr val="99ff33"/>
          </a:solidFill>
          <a:ln w="9360">
            <a:solidFill>
              <a:srgbClr val="bce2d7"/>
            </a:solidFill>
            <a:miter/>
          </a:ln>
          <a:effectLst>
            <a:outerShdw dist="107932" dir="18900000" blurRad="0" rotWithShape="0">
              <a:srgbClr val="526133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Язык и шаблоны нашей мысли неразрывно между собой переплетены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они в некотором смысле составляют одно и то же”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Цель когнитивной лингвистик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Соотнесение: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99"/>
                </a:solidFill>
                <a:latin typeface="Tahoma"/>
              </a:rPr>
              <a:t>языковые структуры</a:t>
            </a:r>
            <a:r>
              <a:rPr b="0" lang="en-US" sz="5400" spc="-1" strike="noStrike">
                <a:solidFill>
                  <a:srgbClr val="9900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99"/>
                </a:solidFill>
                <a:latin typeface="Tahoma"/>
              </a:rPr>
              <a:t>когнитивные структур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843280" y="3716280"/>
            <a:ext cx="0" cy="93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651640" y="3789360"/>
            <a:ext cx="0" cy="1008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Проблем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огнитивная структу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дана в непосредственном наблюдени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днако язык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иболее естественный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способ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ее обнаруж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e5d31"/>
                </a:solidFill>
                <a:latin typeface="Tahoma"/>
              </a:rPr>
              <a:t>Очень важно подчеркнуть, </a:t>
            </a:r>
            <a:br>
              <a:rPr sz="5400"/>
            </a:br>
            <a:r>
              <a:rPr b="0" lang="ru-RU" sz="5400" spc="-1" strike="noStrike">
                <a:solidFill>
                  <a:srgbClr val="4e5d31"/>
                </a:solidFill>
                <a:latin typeface="Tahoma"/>
              </a:rPr>
              <a:t>что когнитивная структура </a:t>
            </a:r>
            <a:br>
              <a:rPr sz="5400"/>
            </a:br>
            <a:r>
              <a:rPr b="0" lang="ru-RU" sz="5400" spc="-1" strike="noStrike">
                <a:solidFill>
                  <a:srgbClr val="4e5d31"/>
                </a:solidFill>
                <a:latin typeface="Tahoma"/>
              </a:rPr>
              <a:t>не есть нечто </a:t>
            </a:r>
            <a:br>
              <a:rPr sz="5400"/>
            </a:br>
            <a:r>
              <a:rPr b="0" lang="ru-RU" sz="5400" spc="-1" strike="noStrike">
                <a:solidFill>
                  <a:srgbClr val="4e5d31"/>
                </a:solidFill>
                <a:latin typeface="Tahoma"/>
              </a:rPr>
              <a:t>моделируемое дедуктивно, </a:t>
            </a:r>
            <a:br>
              <a:rPr sz="5400"/>
            </a:br>
            <a:r>
              <a:rPr b="0" lang="ru-RU" sz="5400" spc="-1" strike="noStrike">
                <a:solidFill>
                  <a:srgbClr val="4e5d31"/>
                </a:solidFill>
                <a:latin typeface="Tahoma"/>
              </a:rPr>
              <a:t>то, что можно произвольно придумать и постулировать.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e5d31"/>
                </a:solidFill>
                <a:latin typeface="Tahoma"/>
              </a:rPr>
              <a:t>Это то,</a:t>
            </a:r>
            <a:br>
              <a:rPr sz="6600"/>
            </a:br>
            <a:r>
              <a:rPr b="0" lang="ru-RU" sz="6600" spc="-1" strike="noStrike">
                <a:solidFill>
                  <a:srgbClr val="4e5d31"/>
                </a:solidFill>
                <a:latin typeface="Tahoma"/>
              </a:rPr>
              <a:t> что реально делает человеческий мозг, </a:t>
            </a:r>
            <a:br>
              <a:rPr sz="6600"/>
            </a:br>
            <a:r>
              <a:rPr b="0" lang="ru-RU" sz="6600" spc="-1" strike="noStrike">
                <a:solidFill>
                  <a:srgbClr val="4e5d31"/>
                </a:solidFill>
                <a:latin typeface="Tahoma"/>
              </a:rPr>
              <a:t>когда он «мыслит».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6237360"/>
          </a:xfrm>
          <a:prstGeom prst="rect">
            <a:avLst/>
          </a:prstGeom>
          <a:solidFill>
            <a:srgbClr val="d3e4ba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снов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временного когнитивного подх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язык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жит иде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5a6e04"/>
                </a:solidFill>
                <a:latin typeface="Tahoma"/>
              </a:rPr>
              <a:t>целенаправленной реконструкции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когнитивных структур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5d31"/>
                </a:solidFill>
                <a:latin typeface="Tahoma"/>
              </a:rPr>
              <a:t>по данным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нешней языковой формы и языкового поведен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261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Comic Sans MS"/>
              </a:rPr>
              <a:t>Постулат об исходной когнитивной мотивированности</a:t>
            </a:r>
            <a:r>
              <a:rPr b="0" i="1" lang="ru-RU" sz="40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9933"/>
                </a:solidFill>
                <a:latin typeface="Comic Sans MS"/>
              </a:rPr>
              <a:t>языковой формы: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solidFill>
            <a:srgbClr val="009999">
              <a:alpha val="69000"/>
            </a:srgbClr>
          </a:solidFill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0079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в той мере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в какой языковая форма мотивирована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она “отражает” стоящую за ней когнитивную структуру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540640" cy="5905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Когнитивную природу язык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наивно иска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в свидетельства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прямолинейных совпадений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когнитивного и языкового членен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261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Comic Sans MS"/>
              </a:rPr>
              <a:t>Презумпция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07932" dir="18900000" blurRad="0" rotWithShape="0">
              <a:srgbClr val="526133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 бесконечным разнообрази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блюдаемых языковых структу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крываетс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статочно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жестк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семиотическая логик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905440"/>
          </a:xfrm>
          <a:prstGeom prst="rect">
            <a:avLst/>
          </a:prstGeom>
          <a:solidFill>
            <a:srgbClr val="cccc00"/>
          </a:solidFill>
          <a:ln w="9360">
            <a:solidFill>
              <a:srgbClr val="ff0000"/>
            </a:solidFill>
            <a:miter/>
          </a:ln>
          <a:effectLst>
            <a:outerShdw dist="40186" dir="1096358" blurRad="0" rotWithShape="0">
              <a:srgbClr val="5261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-  логика,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граничивающ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рьиров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блюдаемой языковой фор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устанавливающая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истинные связ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 языковым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а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когнитивными структурами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405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526133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ahoma"/>
              </a:rPr>
              <a:t>Описательная лингвисти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solidFill>
            <a:srgbClr val="cccc00"/>
          </a:solidFill>
          <a:ln w="9360">
            <a:solidFill>
              <a:srgbClr val="ff0000"/>
            </a:solidFill>
            <a:miter/>
          </a:ln>
          <a:effectLst>
            <a:outerShdw dist="40186" dir="4303641" blurRad="0" rotWithShape="0">
              <a:srgbClr val="5261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бнаружение и описани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этой логи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является цель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ингвистическ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онструкци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261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Исходный материал для реконструкции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истемные отношения между языковыми формам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дного язы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метод внутриязыковой реконструкции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истемные отношения между сопоставимыми языковыми формам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ногих языко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метод типологической реконструкции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8540640" cy="23335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ff33"/>
                </a:solidFill>
                <a:latin typeface="Arial Black"/>
              </a:rPr>
              <a:t>Выводы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00"/>
          </a:solidFill>
          <a:ln w="9360">
            <a:solidFill>
              <a:srgbClr val="bce2d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ТАК,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когнитивная лингвистик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это объяснительная теория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об </a:t>
            </a:r>
            <a:r>
              <a:rPr b="0" lang="en-US" sz="4000" spc="-1" strike="noStrike">
                <a:solidFill>
                  <a:srgbClr val="4e5d31"/>
                </a:solidFill>
                <a:latin typeface="Tahoma"/>
              </a:rPr>
              <a:t>устройстве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lang="en-US" sz="4000" spc="-1" strike="noStrike">
                <a:solidFill>
                  <a:srgbClr val="4e5d31"/>
                </a:solidFill>
                <a:latin typeface="Tahoma"/>
              </a:rPr>
              <a:t>использовани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5a6e04"/>
                </a:solidFill>
                <a:latin typeface="Tahoma"/>
              </a:rPr>
              <a:t>естественного язык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,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пирающаяся на гипотезу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 глубинной связи языка и мышления и реконструирующая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огнитивную структуру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о данным естественного языка.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ингвистические сред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Типология и универсал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Теория зна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Теория дискур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Свидетельства разноструктурных языков (полевая лингвисти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Психолингвистический эксперим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Компьютерные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ингвистические последств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Tahoma"/>
              </a:rPr>
              <a:t>Пересмотр архитектуры Теории язы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Tahoma"/>
              </a:rPr>
              <a:t>Изменение технологии, формата и целей описательной лингвисти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Выводы для высшей шко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solidFill>
            <a:srgbClr val="ccff66"/>
          </a:solidFill>
          <a:ln w="9360">
            <a:solidFill>
              <a:srgbClr val="ccff66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ahoma"/>
              </a:rPr>
              <a:t>К этому надо быть готовы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ahoma"/>
              </a:rPr>
              <a:t>Обучение лингвистике должно опережать ее современные стереотип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Благодарю за внимани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Comic Sans MS"/>
              </a:rPr>
              <a:t>Идиоэтнические язы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6000 языков на земном ш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&gt; 150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лн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7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0,001%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&gt;  50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лн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20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0,003%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1 млн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38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0,023%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00 тыс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58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0,04%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10 тыс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597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0%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Неравномерность изученности языков, приоритеты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2349360"/>
            <a:ext cx="854064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упные языки с национальной традиц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есписьменные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/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младописьменные язы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Умирающие язы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40516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ahoma"/>
              </a:rPr>
              <a:t>Теор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ahoma"/>
              </a:rPr>
              <a:t>Язы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Научные парадигмы ХХ ве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1-я полов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уктурная (европейска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скриптивная (американска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2-я полов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енератив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а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ункциона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гнитив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Comic Sans MS"/>
              </a:rPr>
              <a:t>Соссюрианские заблужд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ольность языкового зн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отивированность языкового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на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хотомия синхронии – диахро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Единство диахронии и синхро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хотомия языка – ре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еотделимость речи от язы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Главные вопросы теория Язык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 устроен язык, языковая деятельность? (Целостная модель язы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Языковые модули (проблема автономности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языковые правила (многофакторность)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оптимальность языкового механиз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м ограничивается языковое разнообразие? (Источник универсали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Врожденность или когнитивная фун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м обусловлена бесконечность языкового варьирования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Случайность или закономер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8:44:09Z</dcterms:created>
  <dc:creator>ae</dc:creator>
  <dc:description/>
  <dc:language>en-US</dc:language>
  <cp:lastModifiedBy>ae</cp:lastModifiedBy>
  <dcterms:modified xsi:type="dcterms:W3CDTF">2005-02-23T20:33:52Z</dcterms:modified>
  <cp:revision>13</cp:revision>
  <dc:subject/>
  <dc:title>Современное состояние лингвистики </dc:title>
</cp:coreProperties>
</file>