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D08-0DAA-4859-AAF0-698E6D22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A3C-2B06-425A-8CFD-F8CD2B37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C3B-F006-4DEA-8405-9D5EAFF5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19D-8894-49CD-9484-413AFDCA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91FC-DF9C-4C9B-BFAE-5A8982A5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1A5F-525E-4285-B301-1A8DC5D0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7334-7DC5-4E6D-8586-3689AF0A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C001-1D24-42D9-83C4-512688D7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E539-264D-4853-8ADB-AE6C32D0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8453-695D-4D5F-B612-3D858D80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E064-7256-4D42-9843-CD09F126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8B3-CD3F-4852-83F9-292AC0D8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59FF-58A8-410F-87CE-D70C624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4D97-7A8A-43D8-BCA7-0F84D81E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EEA3-092E-41CB-940B-2EC310F4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020B-AA43-4869-81F6-3C4FB309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BF61-A4F7-466C-B0B1-761CD80A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FB9-ABCD-4AA8-82A6-5D568B3B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00E-4E2C-4BE4-AF4F-2DCB5E50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B6F-35EE-4B1F-8C8F-1766F1A4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629-BEDE-4281-967B-A6AB9998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570-5702-4663-9C47-8BB866FC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32B-272E-4DA0-99AC-70954380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C76-E910-4C16-A37D-B9E1CFF8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ADB7-7057-43FD-8967-353734626C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261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26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d31"/>
                  </a:gs>
                  <a:gs pos="100000">
                    <a:srgbClr val="52613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4a572e"/>
                  </a:gs>
                  <a:gs pos="50000">
                    <a:srgbClr val="526133"/>
                  </a:gs>
                  <a:gs pos="100000">
                    <a:srgbClr val="4a572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B5A8-BF15-472E-93CE-5236162AC2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gradFill rotWithShape="0">
            <a:gsLst>
              <a:gs pos="0">
                <a:srgbClr val="465e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Современное состояние лингвистик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Е.Кибр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4.02.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Динамика приоритетов в истории лингвист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нетика 0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рфология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таксис 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мантика 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скурс 7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7885080" y="4292640"/>
            <a:ext cx="358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20000" y="364500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03640" y="1916280"/>
            <a:ext cx="647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59280" y="2492280"/>
            <a:ext cx="50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7640" y="3141720"/>
            <a:ext cx="720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08360" y="1916280"/>
            <a:ext cx="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341316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Когнитивная наука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и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лингвисти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Приоритеты мировой нау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57360"/>
            <a:ext cx="8540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Х век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д знаком великих физических открыт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 основанных на них технолог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гноз на Х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ек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концентрируется на изучении человека – самого сложного научного объекта, существующего во вселенн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Comic Sans MS"/>
              </a:rPr>
              <a:t>Мозг, мышление, язык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еханизмы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зга, мышления, сознания и Язы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тановятся самым главным центром интереса науки наступившего века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Comic Sans MS"/>
              </a:rPr>
              <a:t>Исследование</a:t>
            </a:r>
            <a:br>
              <a:rPr sz="4800"/>
            </a:br>
            <a:r>
              <a:rPr b="0" lang="en-US" sz="4800" spc="-1" strike="noStrike">
                <a:solidFill>
                  <a:srgbClr val="ff9933"/>
                </a:solidFill>
                <a:latin typeface="Comic Sans MS"/>
              </a:rPr>
              <a:t> механизмов мышления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ступ к мышлению –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озг как физическая реаль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Язык как символическая реаль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Языковая деятельность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как реализация мыслительной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99ff33"/>
                </a:solidFill>
                <a:latin typeface="Tahoma"/>
              </a:rPr>
              <a:t>дискурс, психолингвис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Структура когнитивной нау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ингвис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спериментальная псих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йрофизи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кусственный интеллект, робототех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илософ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атемат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3335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ff33"/>
                </a:solidFill>
                <a:latin typeface="Arial Black"/>
              </a:rPr>
              <a:t>Когнитивная</a:t>
            </a:r>
            <a:r>
              <a:rPr b="0" lang="en-US" sz="6600" spc="-1" strike="noStrike">
                <a:solidFill>
                  <a:srgbClr val="99ff33"/>
                </a:solidFill>
                <a:latin typeface="Tahoma"/>
              </a:rPr>
              <a:t> </a:t>
            </a:r>
            <a:r>
              <a:rPr b="0" lang="en-US" sz="6600" spc="-1" strike="noStrike">
                <a:solidFill>
                  <a:srgbClr val="99ff33"/>
                </a:solidFill>
                <a:latin typeface="Arial Black"/>
              </a:rPr>
              <a:t>лингвистик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Comic Sans MS"/>
              </a:rPr>
              <a:t>Сепир (</a:t>
            </a: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Language</a:t>
            </a:r>
            <a:r>
              <a:rPr b="0" lang="ru-RU" sz="4000" spc="-1" strike="noStrike">
                <a:solidFill>
                  <a:srgbClr val="ff9933"/>
                </a:solidFill>
                <a:latin typeface="Comic Sans MS"/>
              </a:rPr>
              <a:t>. 1921)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Язык можно счита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лишь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нешней грань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ышлени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 наивысшем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иболее обобщенном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уровн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имволического выраже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 точки зрения языка МЫШЛ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жет быть определено как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ивысше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крытое или потенциально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одержание речи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такое содержание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торого можно достичь, толку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каждый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элемен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ечевого поток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ак в максимальной степени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деленный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онцептуальной значимость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Структура лингвистических знан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01680" y="1600200"/>
          <a:ext cx="8540640" cy="520236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«Чистая» лингв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+ сравнение язы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+ смежные нау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икладная лингв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Описатель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.-ист. Языкозн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Психо-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Компьютерная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Теория Язы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33"/>
                          </a:solidFill>
                          <a:latin typeface="Tahoma"/>
                        </a:rPr>
                        <a:t>Типология и универсал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цио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евая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трастивная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йро-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нгво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дак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реальная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но-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зыковая поли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иалект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тематич.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зыковое воздейств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вантитативная лингвис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…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solidFill>
            <a:srgbClr val="99ff33"/>
          </a:solidFill>
          <a:ln w="9360">
            <a:solidFill>
              <a:srgbClr val="bce2d7"/>
            </a:solidFill>
            <a:miter/>
          </a:ln>
          <a:effectLst>
            <a:outerShdw dist="107932" dir="18900000" blurRad="0" rotWithShape="0">
              <a:srgbClr val="5261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Язык и шаблоны нашей мысли неразрывно между собой переплетены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они в некотором смысле составляют одно и то же”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Цель когнитивной лингвистик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Соотнесение: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Tahoma"/>
              </a:rPr>
              <a:t>языковые структуры</a:t>
            </a:r>
            <a:r>
              <a:rPr b="0" lang="en-US" sz="5400" spc="-1" strike="noStrike">
                <a:solidFill>
                  <a:srgbClr val="9900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99"/>
                </a:solidFill>
                <a:latin typeface="Tahoma"/>
              </a:rPr>
              <a:t>когнитивные структур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843280" y="3716280"/>
            <a:ext cx="0" cy="936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651640" y="3789360"/>
            <a:ext cx="0" cy="100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Проблем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огнитивная структу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дана в непосредственном наблюдени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однако язык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иболее естественный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способ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ее обнаруж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e5d31"/>
                </a:solidFill>
                <a:latin typeface="Tahoma"/>
              </a:rPr>
              <a:t>Очень важно подчеркнуть, </a:t>
            </a:r>
            <a:br>
              <a:rPr sz="5400"/>
            </a:br>
            <a:r>
              <a:rPr b="0" lang="ru-RU" sz="5400" spc="-1" strike="noStrike">
                <a:solidFill>
                  <a:srgbClr val="4e5d31"/>
                </a:solidFill>
                <a:latin typeface="Tahoma"/>
              </a:rPr>
              <a:t>что когнитивная структура </a:t>
            </a:r>
            <a:br>
              <a:rPr sz="5400"/>
            </a:br>
            <a:r>
              <a:rPr b="0" lang="ru-RU" sz="5400" spc="-1" strike="noStrike">
                <a:solidFill>
                  <a:srgbClr val="4e5d31"/>
                </a:solidFill>
                <a:latin typeface="Tahoma"/>
              </a:rPr>
              <a:t>не есть нечто </a:t>
            </a:r>
            <a:br>
              <a:rPr sz="5400"/>
            </a:br>
            <a:r>
              <a:rPr b="0" lang="ru-RU" sz="5400" spc="-1" strike="noStrike">
                <a:solidFill>
                  <a:srgbClr val="4e5d31"/>
                </a:solidFill>
                <a:latin typeface="Tahoma"/>
              </a:rPr>
              <a:t>моделируемое дедуктивно, </a:t>
            </a:r>
            <a:br>
              <a:rPr sz="5400"/>
            </a:br>
            <a:r>
              <a:rPr b="0" lang="ru-RU" sz="5400" spc="-1" strike="noStrike">
                <a:solidFill>
                  <a:srgbClr val="4e5d31"/>
                </a:solidFill>
                <a:latin typeface="Tahoma"/>
              </a:rPr>
              <a:t>то, что можно произвольно придумать и постулировать.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e5d31"/>
                </a:solidFill>
                <a:latin typeface="Tahoma"/>
              </a:rPr>
              <a:t>Это то,</a:t>
            </a:r>
            <a:br>
              <a:rPr sz="6600"/>
            </a:br>
            <a:r>
              <a:rPr b="0" lang="ru-RU" sz="6600" spc="-1" strike="noStrike">
                <a:solidFill>
                  <a:srgbClr val="4e5d31"/>
                </a:solidFill>
                <a:latin typeface="Tahoma"/>
              </a:rPr>
              <a:t> что реально делает человеческий мозг, </a:t>
            </a:r>
            <a:br>
              <a:rPr sz="6600"/>
            </a:br>
            <a:r>
              <a:rPr b="0" lang="ru-RU" sz="6600" spc="-1" strike="noStrike">
                <a:solidFill>
                  <a:srgbClr val="4e5d31"/>
                </a:solidFill>
                <a:latin typeface="Tahoma"/>
              </a:rPr>
              <a:t>когда он «мыслит».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229600" cy="6237360"/>
          </a:xfrm>
          <a:prstGeom prst="rect">
            <a:avLst/>
          </a:prstGeom>
          <a:solidFill>
            <a:srgbClr val="d3e4ba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основ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временного когнитивного подх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 язык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жит иде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4400" spc="-1" strike="noStrike">
                <a:solidFill>
                  <a:srgbClr val="5a6e04"/>
                </a:solidFill>
                <a:latin typeface="Tahoma"/>
              </a:rPr>
              <a:t>целенаправленной реконструкции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когнитивных структур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d31"/>
                </a:solidFill>
                <a:latin typeface="Tahoma"/>
              </a:rPr>
              <a:t>по данным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внешней языковой формы и языкового поведения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261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Comic Sans MS"/>
              </a:rPr>
              <a:t>Постулат об исходной когнитивной мотивированности</a:t>
            </a:r>
            <a:r>
              <a:rPr b="0" i="1" lang="ru-RU" sz="40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9933"/>
                </a:solidFill>
                <a:latin typeface="Comic Sans MS"/>
              </a:rPr>
              <a:t>языковой формы: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solidFill>
            <a:srgbClr val="009999">
              <a:alpha val="69000"/>
            </a:srgbClr>
          </a:solidFill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00795b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в той мере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в какой языковая форма мотивирована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она “отражает” стоящую за ней когнитивную структур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540640" cy="5905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Когнитивную природу язык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наивно иска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в свидетельства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прямолинейных совпадений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Tahoma"/>
              </a:rPr>
              <a:t>когнитивного и языкового членени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261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Comic Sans MS"/>
              </a:rPr>
              <a:t>Презумпция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07932" dir="18900000" blurRad="0" rotWithShape="0">
              <a:srgbClr val="526133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а бесконечным разнообразие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аблюдаемых языковых структу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крываетс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статочно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жестка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семиотическая логик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905440"/>
          </a:xfrm>
          <a:prstGeom prst="rect">
            <a:avLst/>
          </a:prstGeom>
          <a:solidFill>
            <a:srgbClr val="cccc00"/>
          </a:solidFill>
          <a:ln w="9360">
            <a:solidFill>
              <a:srgbClr val="ff0000"/>
            </a:solidFill>
            <a:miter/>
          </a:ln>
          <a:effectLst>
            <a:outerShdw dist="40186" dir="1096358" blurRad="0" rotWithShape="0">
              <a:srgbClr val="5261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-  логика,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ограничивающая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рьиров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блюдаемой языковой фор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устанавливающая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истинные связ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жду языковым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ам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когнитивными структурами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405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526133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Описательная лингвисти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solidFill>
            <a:srgbClr val="cccc00"/>
          </a:solidFill>
          <a:ln w="9360">
            <a:solidFill>
              <a:srgbClr val="ff0000"/>
            </a:solidFill>
            <a:miter/>
          </a:ln>
          <a:effectLst>
            <a:outerShdw dist="40186" dir="4303641" blurRad="0" rotWithShape="0">
              <a:srgbClr val="5261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бнаружение и описа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этой логи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является целью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ингвистическ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онструкци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261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Исходный материал для реконструкции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стемные отношения между языковыми формам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дного язык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метод внутриязыковой реконструкции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истемные отношения между сопоставимыми языковыми формам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ногих языко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метод типологической реконструкции)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3335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ff33"/>
                </a:solidFill>
                <a:latin typeface="Arial Black"/>
              </a:rPr>
              <a:t>Вывод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00"/>
          </a:solidFill>
          <a:ln w="9360">
            <a:solidFill>
              <a:srgbClr val="bce2d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ТАК,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когнитивная лингвистик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это объяснительная теория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об </a:t>
            </a:r>
            <a:r>
              <a:rPr b="0" lang="en-US" sz="4000" spc="-1" strike="noStrike">
                <a:solidFill>
                  <a:srgbClr val="4e5d31"/>
                </a:solidFill>
                <a:latin typeface="Tahoma"/>
              </a:rPr>
              <a:t>устройстве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lang="en-US" sz="4000" spc="-1" strike="noStrike">
                <a:solidFill>
                  <a:srgbClr val="4e5d31"/>
                </a:solidFill>
                <a:latin typeface="Tahoma"/>
              </a:rPr>
              <a:t>использовани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5a6e04"/>
                </a:solidFill>
                <a:latin typeface="Tahoma"/>
              </a:rPr>
              <a:t>естественного язык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,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пирающаяся на гипотезу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 глубинной связи языка и мышления и реконструирующая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когнитивную структуру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о данным естественного языка.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ингвистические средств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Типология и универсал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Теория знач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Теория дискур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Свидетельства разноструктурных языков (полевая лингвисти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Психолингвистический экспериме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99"/>
                </a:solidFill>
                <a:latin typeface="Tahoma"/>
              </a:rPr>
              <a:t>Компьютерные технолог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ингвистические последств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ahoma"/>
              </a:rPr>
              <a:t>Пересмотр архитектуры Теории язы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ahoma"/>
              </a:rPr>
              <a:t>Изменение технологии, формата и целей описательной лингвисти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Выводы для высшей шко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solidFill>
            <a:srgbClr val="ccff66"/>
          </a:solidFill>
          <a:ln w="9360">
            <a:solidFill>
              <a:srgbClr val="ccff66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К этому надо быть готовы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Обучение лингвистике должно опережать ее современные стереотип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Благодарю за вним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Comic Sans MS"/>
              </a:rPr>
              <a:t>Идиоэтнические язык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6000 языков на земном ш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gt; 150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лн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7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,001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gt;  50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лн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20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,003%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1 млн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38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,023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00 тыс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58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0,04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10 тыс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597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Неравномерность изученности языков, приоритеты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2349360"/>
            <a:ext cx="854064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упные языки с национальной традиц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есписьменные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/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младописьменные язы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мирающие язы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40516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Теор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ahoma"/>
              </a:rPr>
              <a:t>Язык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Научные парадигмы ХХ ве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1-я полов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уктурная (европейска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скриптивная (американска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2-я полов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енератив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орм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Функциональ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нитив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33"/>
                </a:solidFill>
                <a:latin typeface="Comic Sans MS"/>
              </a:rPr>
              <a:t>Соссюрианские заблужд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ольность языкового зн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Мотивированность языкового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на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хотомия синхронии – диахро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динство диахронии и синхро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хотомия языка –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еотделимость речи от язы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5d31"/>
            </a:gs>
            <a:gs pos="100000">
              <a:srgbClr val="46542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Главные вопросы теория Язык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устроен язык, языковая деятельность? (Целостная модель язы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Языковые модули (проблема автономности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языковые правила (многофакторность)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птимальность языкового механиз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ограничивается языковое разнообразие? (Источник универсали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Врожденность или когнитивная фун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обусловлена бесконечность языкового варьирования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Случайность или закономер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8:44:09Z</dcterms:created>
  <dc:creator>ae</dc:creator>
  <dc:description/>
  <dc:language>en-US</dc:language>
  <cp:lastModifiedBy>ae</cp:lastModifiedBy>
  <dcterms:modified xsi:type="dcterms:W3CDTF">2005-02-23T20:33:52Z</dcterms:modified>
  <cp:revision>13</cp:revision>
  <dc:subject/>
  <dc:title>Современное состояние лингвистики </dc:title>
</cp:coreProperties>
</file>